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91A-F23B-4A8C-902F-B93F5873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E48-F4FE-4D5D-BAE5-5DB7517D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E6B61-99F6-485B-AC81-749BD12C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451581-165B-4FA1-BAF3-9F7388A7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FE3FB-9D50-4E58-A7AF-1683FA1F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914CC9-C88D-43E2-9928-65F6A533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61C71-8840-4FAB-8DEE-CB343D46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40C3C-DFFB-440A-B417-8ED48205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EAA98-1360-4531-9D1D-7A1CFF0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CCF65-D41F-4321-A94E-02406969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A39FE-BCC8-4E10-9913-273414EB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A3EDA2-D4C6-46A8-98CE-1B829219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068-5326-4F42-900D-5BE82B23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820E32-7670-4261-8180-AD0A09FC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0621D-6147-45EF-951E-1DA689C6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190C5-AA47-4155-A162-FDF39C44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F1337-278E-4922-BC15-7971A506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9DCBB-7249-4434-A3BC-D3AD8AEA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818D7-7E4A-4120-80F0-CF3E145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1672B-9939-461C-A603-766742F6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BB587-571A-468C-9505-B9F2AB3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3769D-BE15-4A29-A27D-BFF9B81C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6C5C1-AD9F-4DA2-A762-43F54AE4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B82-38FF-4956-8D49-21D0F45AC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3AFAB-9E17-4C2D-B362-2F9A7ACA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E0153-147E-4D9F-8457-A8496FAB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A2E05-F392-42AA-8FB8-6593C9E8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CC81D-113C-4843-A76B-6C607150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FB98F-23E6-4008-BA2B-1963DC57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95D5F-B1BC-4338-85DA-E8055B23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85103-05DD-479A-890E-F17508B8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4583B-CDC0-41D2-A6CB-DCEE27D7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79C4C-753B-4B31-AFC6-FF6C4B62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0F436-69D3-4CCF-B8E4-02516388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09D1-945B-4A88-807C-09066555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6E0FB-E505-4B29-AD19-46DBC0CB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D2A0B-7A8F-481C-BBEC-A2A810F7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DC962-47F6-4183-9F1F-7E4AF3B42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F4FE9-AC75-45F4-BB48-FEF8477E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C2B1A2-3B9D-4020-8782-182EC67B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AC11E-478F-46E7-9F9C-B8D425A1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B97A4-6037-4D53-8E13-819EDDF8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D86D6-55DD-428F-BA3A-15CD1BE1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AE237F-905A-4451-8626-D69C7662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A5AF3-184A-4636-AAD6-6343C913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890F-C429-4CCE-9877-17223B3E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88228-03EB-4406-80F5-8512C291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F2FC46-E050-4F3A-89E6-4FA28AE0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4C70E-1D60-4620-91C4-A48745C6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794B67-CC4B-4D4B-92E9-0BD2A11C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4FDF9-F207-44B7-8485-54DD1D71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D5F2-812B-4DA2-ABB7-9078BFC5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044B-3ADD-461A-AF39-104E2479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E0B4-7F1E-4D15-A99A-656CE72A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D979-27F5-4ED1-8BB8-1CB774DA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F96B-48B4-49CA-A97A-DAA2F284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FCE-CBE4-4ADE-8C94-EE6EBA73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D503-4670-4674-A08E-BA5CE727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26C7-1EF2-4F80-9FDA-C3915F6E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4D6C-C437-4472-A878-83F9977B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3758-1180-4A36-AD46-2D5527EF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20D9-452E-4783-84A9-51EB0FDB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A4BF6-1628-4129-9214-CD90A6F9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F752-81DA-44CB-9786-1F96C9B9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C814-F3C9-4764-A077-3EDAD2B8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48DD-DA7E-4BAA-AECA-68892CAC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0A94D-E5A1-4BC6-86D0-A338CA4F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E6F-FD06-4744-BCB5-3460B3DF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10AC-FD62-4EE4-AB21-F5C2D98C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1E00-0C89-40F5-A11C-82D6EA8E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DE1E5-1F99-49AA-90D8-AD5BC961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6DE2-B3AE-413B-AFC8-823A73A3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6E1B-6690-49DA-B63D-3560C489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40D6-53F8-4EE1-B972-A48428DB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8AB2A-AD47-4A75-8F75-5A300DAA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1AAF-19F7-4C5B-9CBE-6C658F8D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7AF4D-48F3-441A-8493-0356A66C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07FAB-332E-4FA4-864C-7C760B65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783-1EA1-494D-B282-5AA353C9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0B332-9DE2-4F6D-970A-4860CA00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02095-AE28-492E-B2E9-24E3FCC3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779ED-A6F6-46FA-9191-ED212679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E02BD-EAAF-4804-910B-49D05E89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6202-0B8C-4371-833D-2C3E01D6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32FD5-EB31-4F4D-B474-6D1DF55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2B92-3B03-4FCC-B2A3-C1628666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41DFA-FDF6-43DB-AB93-2DE58D1F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3AB1F-B2B5-4412-B80A-1B4FA6B9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97C29-1EDD-4465-AB64-4671C1ED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15A-4125-48DA-BBB1-AA7DE778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4E260-FF1F-40F2-BCCA-8ADDB37E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CCBCA-D2B0-4151-B15A-82FE5C84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B58E1-3887-4AAB-98C7-A7EEC5A0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9582C-386A-478C-87C5-1DA0C842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F02FC-A9D9-4CAE-826B-23C17388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EEA97-5C48-419D-A524-723CD357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0500B-EAAA-42D1-A82F-FC92717C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0ADC8-B504-4738-8531-51DD6525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8C698-3EB9-4C54-BCE2-F6D1D0ED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F21A6-B783-4CB7-AD3F-20DE417A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5FF-C999-4748-9DDB-EAAEB92D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1049B-E7F8-4D2B-A3AA-CFCD99B1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FB946-C696-4D65-B01D-3155ECA2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799D7-62A9-4964-8C29-A1B7F761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3A4B4-FA85-40A6-8B61-F3E3DB52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764E6-CD47-4FC4-A619-F31F73D7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D75FE-D022-4540-A98D-E10CEECE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C0148-A121-4E16-AC11-F55FF957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73524-121F-43DB-A610-C0F6ABD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6B1B1-D390-49EC-8760-73433BD4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40CC0-3E0C-43BE-8432-BB0B5366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AB6-5F3B-4592-BA74-7AB76B27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9C8B2-7D45-4A1D-A8FF-16294BB0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D5137-E6E4-4F2D-A941-6DE67268D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D06B-E893-45E9-BBF9-DBA32692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6E78E-BF92-4D7A-90D4-3FC8B134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7866B-0C8B-4237-B36B-EAF32469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BD67B-B5DF-418D-80B3-414F4187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52219-A7E4-4959-893D-36817415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03C34-A580-4D23-9420-4C430F0A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CDFB-534B-464C-A80E-F1548DFB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8C0B9-2AF9-42EA-86EB-FB0998E0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45F7-82B7-49FF-BD15-8914A20F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0B388-DFBA-481D-B0CF-CB3A22CA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C4636-904B-4E89-9D42-4781934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8425D-B9BE-4945-9A24-1E6ADBF0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87EAD-4919-47CF-AEF7-310D31FB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A2902-A1D4-4BC6-9229-4A156660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98919-7EDF-4F4F-AEC5-39DD28B4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6272-067A-4A67-AF97-69B11626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4E174-3A0D-4152-B746-E3F8092B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2AEB5-E295-41C8-B571-DA658DBB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4B154-EBCA-48E4-9806-84AEE565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FD70-452D-41F7-9237-A0738506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99897-86A6-4285-9A37-7EACBB1B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4E326-4BCB-4F62-B2E3-56C90ED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9BFF9-FB04-4C6C-BE59-B162219E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D2C76-6F7B-471D-9B93-5EF45931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311BE-86D5-4EFF-8C46-72AD49B9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18298-327C-4137-BFA3-64486011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5BFBD-F294-46A4-BBF7-2666DA4C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6B0855-06F8-4ACE-AD91-4B30FFCC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B0CC6-3812-44E1-92AC-AFD15F53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6F8C9-CABA-485B-8FC2-759E62CF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7595D-76C2-4410-A052-4FDC50C3757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88B207-390C-4AB7-B853-4DFEC0D5B1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78394-E327-4F24-9BDD-0B85F2C098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F19ED-3753-4E0B-86F4-AC0AD8D5D0D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38E34-E375-4470-BB7D-BA8FFD0EF13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B4EF5-5182-4A91-85D2-2D20E5EE0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BF3FF-09CC-48D9-A85A-1B1A13864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152AC-AE00-488A-8AC6-47C7365CEE4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05424-9717-4FF7-B06C-9A228631407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53A23-A7DE-4DF3-B540-8548B504DD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83F210-7418-4F73-8992-57466380776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F7E0EE-93D1-40AF-8595-D0F252EF8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CC690-1495-4E26-B4E0-7ABE39DBFB9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3CAD9-11D3-43B7-AFFF-C3209B2B65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C7EE1-D5F6-4ABE-AA7B-9AED4BF3EF2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049EAD-9A61-4AF1-8DD7-931EDD01C6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C61A1-826C-43CB-AAF2-976EE69275C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A1065-0F01-4D2C-A315-DD395A9D9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21E64-67F7-4ABC-8432-C8A01C20389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21F2D-9995-418F-ACF6-44AE9F2A14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5F491-C32B-4512-844F-89DC16F323B5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CD232-5289-49AB-B234-D4A5A35714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6C352-6CAA-4356-BB9D-B9399C754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2921E-7781-4BD7-94F8-5ABBF2AC1D9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hitler&amp;num=10&amp;um=1&amp;hl=en&amp;client=firefox-a&amp;rls=org.mozilla:en-US:official&amp;biw=1827&amp;bih=918&amp;tbm=isch&amp;tbnid=TY0KGBO1zEaZZM:&amp;imgrefurl=http://www.tallarmeniantale.com/hitler-quote.htm&amp;docid=6ztdC2UPN9vl5M&amp;imgurl=http://www.tallarmeniantale.com/pics/hitler2.JPG&amp;w=255&amp;h=288&amp;ei=f9IFT_3_NerY0QGqgcGbAg&amp;zoom=1&amp;iact=hc&amp;vpx=458&amp;vpy=361&amp;dur=541&amp;hovh=172&amp;hovw=151&amp;tx=85&amp;ty=114&amp;sig=103217518084304061371&amp;sqi=2&amp;page=1&amp;tbnh=172&amp;tbnw=151&amp;start=0&amp;ndsp=41&amp;ved=1t:429,r:12,s: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stalin&amp;num=10&amp;um=1&amp;hl=en&amp;client=firefox-a&amp;rls=org.mozilla:en-US:official&amp;biw=1827&amp;bih=918&amp;tbm=isch&amp;tbnid=rlQvTm351O05DM:&amp;imgrefurl=http://www.counter-currents.com/2011/04/exposing-stalins-plan-to-conquer-europe/&amp;docid=tQwXmR5i1tRrIM&amp;imgurl=http://cdn.counter-currents.com/wp-content/uploads/2011/04/stalin_victory.jpg&amp;w=335&amp;h=328&amp;ei=itIFT4awG8Xi0QHI1NjPAg&amp;zoom=1&amp;iact=hc&amp;vpx=385&amp;vpy=182&amp;dur=690&amp;hovh=222&amp;hovw=227&amp;tx=118&amp;ty=118&amp;sig=103217518084304061371&amp;sqi=2&amp;page=1&amp;tbnh=155&amp;tbnw=161&amp;start=0&amp;ndsp=41&amp;ved=1t:429,r:1,s:0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line-stopwatch.com/countdown-timer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MR. RUSH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Pardon the Interruption</a:t>
            </a:r>
            <a:br>
              <a:rPr sz="3800"/>
            </a:br>
            <a:r>
              <a:rPr b="0" lang="en-US" sz="3800" spc="-1" strike="noStrike">
                <a:solidFill>
                  <a:srgbClr val="d16349"/>
                </a:solidFill>
                <a:latin typeface="Georgia"/>
              </a:rPr>
              <a:t>Axis Aggression</a:t>
            </a:r>
            <a:br>
              <a:rPr sz="3800"/>
            </a:b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were you think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vading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la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6" name="rg_hi" descr="http://t2.gstatic.com/images?q=tbn:ANd9GcRuXqaOKysPy1tAD50IMdWQJ99LMJK6K9unbOBnvsqMkwNgvKH5U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85960" y="1301760"/>
            <a:ext cx="64580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Joseph Stalin- Soviet Union 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What are you thinking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gning the Non Aggression Pact with Hitl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rg_hi" descr="http://t3.gstatic.com/images?q=tbn:ANd9GcTujc6DemwjlBq0N48S8B--tsu7jSXJDCEhi5JP6O7KORMamZCI1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5880" y="2568600"/>
            <a:ext cx="28861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eville Chamberlain- Leader of Britai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t Attacking Hitler’s Aggression-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were you thinking with appeasement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2" name="rg_hi" descr="http://t3.gstatic.com/images?q=tbn:ANd9GcR5gq8afd6I1CDa3Qp2DFgsQPgDpc3rWzSwBvS-B53CNrLooM87MA"/>
          <p:cNvPicPr/>
          <p:nvPr/>
        </p:nvPicPr>
        <p:blipFill>
          <a:blip r:embed="rId1"/>
          <a:stretch/>
        </p:blipFill>
        <p:spPr>
          <a:xfrm>
            <a:off x="3327480" y="2516040"/>
            <a:ext cx="2235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xit Ticke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a 1 sentence explanation of each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ppease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 Aggression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tl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l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x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ntrance Ticke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rite down each term on notebook pap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ppeasemen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 Aggression Pac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itl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tal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x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ime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online-stopwatch.com/countdown-timer/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Treaty of Versaille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Hitler have a legitimate beef over the Treaty of Versailles?  Yes or No?  Why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ppease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y the lack of action by the Allies to Hitler’s agressio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xis Pow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xis Powers- What percent chance do the Axis have of winning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Hitler’s Aggress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did Hitler do that was aggressive?  What territories did he take over?  At what point, would you have intervened (if at all?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Non Aggression Pa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on- Aggression Pact- Mistake for Hitler- Why or Why not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o ya go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o ya got?  Axis or Allied Power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6:47:23Z</dcterms:created>
  <dc:creator>Craig Rush</dc:creator>
  <dc:description/>
  <dc:language>en-US</dc:language>
  <cp:lastModifiedBy>Craig Rush</cp:lastModifiedBy>
  <dcterms:modified xsi:type="dcterms:W3CDTF">2012-01-05T17:03:04Z</dcterms:modified>
  <cp:revision>4</cp:revision>
  <dc:subject/>
  <dc:title>Pardon the Interruption Axis Aggression</dc:title>
</cp:coreProperties>
</file>